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751B9-9210-4963-971A-FFFDCBC3083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ED7CD-B082-4C65-941B-A7EDFF30319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3A5E4-BFDD-467B-B042-6B23DEA7F38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649-6AC5-47EC-B498-2AC44DD7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8AB-640A-4795-BD43-9B4D9C4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F41-7042-459F-A944-EA7358D3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0528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0292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0800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0528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0292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F5E-FA46-48E1-86F8-60F003B1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F86-B851-4E9B-81D4-8E2E1735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CBC5-3F60-487E-AC85-0B872F4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8B00-128D-46D5-A082-5F481CDF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09A8-DF6D-4096-9AF5-00754068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82FF-0C72-4EF0-BBFE-FC69ABCA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08000" y="302760"/>
            <a:ext cx="85694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8B7-5343-47D6-B35F-0971EBFE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6D3-45D1-4F6F-A6D8-D6218CC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6B8-F0D8-470D-B6FF-A82CBDB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DB8-51AD-45F7-AB7F-10F8AE4A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EBE-1F83-4CA2-8F24-1EC4E29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7EC-1D90-4C18-88A9-68E4AB4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8D2-424D-4CF7-9727-8467BAE9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0528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0292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0800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0528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80292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EC4-0DC2-4DED-BA5F-2E1D85F0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CD0D-1855-4254-A856-F88775A8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8325-DCA3-4D6D-AB65-1B58FEE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0A0A-9308-45A6-B6B9-4441A4B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C4F6-DFCA-4BB4-A9F8-42A5C887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30A2-70BC-4C43-B2B6-B56E32E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746-1A86-4738-B0E3-25222D85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08000" y="302760"/>
            <a:ext cx="85694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23C4-3938-441D-8BDA-081F291C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0EB2-2B54-4650-9D5D-CE93730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D259-3946-4173-B5B8-41CCF3E8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6A4E-658A-4E71-AD31-92BC3EF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07739-867D-45E6-8F0B-A0184097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68D3-C053-471D-A15B-05B5A6EF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0528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0292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0800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0528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80292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0FE9-D879-49E1-9F8A-625CC137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FFB2-13EF-44C8-A09A-019D53B6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B003-A327-48F2-9824-85110352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65C7-3D3C-4E64-92E5-32D25DD9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576-84A5-4742-9F55-D4A04EB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BC88-ED9A-43BF-977A-080BFCC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6DA7-C11D-4FFD-A0A0-ACA98B9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008000" y="302760"/>
            <a:ext cx="85694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1E9D-46E6-4B94-860B-8444B5AB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1C43-4385-4882-A472-53B287B3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0D17-A8DB-4A3A-BCDD-A95B3D7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C4CB-D3A2-4526-947D-46ABC93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4B1B-DCEE-4C6E-97EF-594DF46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E03E-8048-48CC-A33E-0A5DC9A5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0528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0292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00800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0528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80292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64C5-2779-4B4F-A3B2-67107C0E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2226-4EA1-4AB3-97D6-E4F240F9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582-C9A8-47A0-B51C-5B8931F2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8FDE-BE0C-496A-94C2-6A2FD9E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73E0-91B4-4BE3-8BAA-9F4A7FBD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D9B8-EC15-43B3-BEBA-00A092BD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AD58F-48C5-47E2-802E-CA391FFC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08000" y="302760"/>
            <a:ext cx="85694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09EC-47B3-4D4E-8AC0-E877C8A7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3850F-ABA2-4E65-B6BA-73FF3BA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A1ED-9965-4064-AAA3-BD729C09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8475-8B8C-4FC1-A8B1-5038842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3078-F600-4297-AEE7-125494D4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F946-F7EC-42F1-A32A-A35B1BAE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8000" y="302760"/>
            <a:ext cx="85694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554-96BB-4C2A-9D42-8D5C8E9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0528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02920" y="159516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00800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90528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802920" y="422820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12C0-FCA1-433E-8242-E48051BD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DFA-4ED5-4636-BD65-70D8C61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9280" y="422820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678-B0A4-4F95-908B-D0BAABB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800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9280" y="159516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08000" y="422820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63D-ABA8-46DC-A0AD-77A494F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8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arrotondato 7"/>
          <p:cNvSpPr/>
          <p:nvPr/>
        </p:nvSpPr>
        <p:spPr>
          <a:xfrm>
            <a:off x="69840" y="76320"/>
            <a:ext cx="9937800" cy="73785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1" marL="603360" indent="-250920">
              <a:spcBef>
                <a:spcPts val="638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2" marL="906480" indent="-250920">
              <a:spcBef>
                <a:spcPts val="638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3" marL="1208160" indent="-250920">
              <a:spcBef>
                <a:spcPts val="638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4" marL="1511280" indent="-250920">
              <a:spcBef>
                <a:spcPts val="638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5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6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03640" y="6824520"/>
            <a:ext cx="2730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008000" y="6804000"/>
            <a:ext cx="43689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35440" y="6919200"/>
            <a:ext cx="356400" cy="35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5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F2A5F9-6C56-4644-9FE6-4ACF3B204461}" type="slidenum">
              <a:rPr b="0" lang="it-IT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ttangolo arrotondato 10"/>
          <p:cNvSpPr/>
          <p:nvPr/>
        </p:nvSpPr>
        <p:spPr>
          <a:xfrm>
            <a:off x="71280" y="76320"/>
            <a:ext cx="9937800" cy="73771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69840" y="1596960"/>
            <a:ext cx="9945720" cy="1684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14"/>
          <p:cNvSpPr/>
          <p:nvPr/>
        </p:nvSpPr>
        <p:spPr>
          <a:xfrm>
            <a:off x="69840" y="1539720"/>
            <a:ext cx="9945720" cy="13356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tangolo 15"/>
          <p:cNvSpPr/>
          <p:nvPr/>
        </p:nvSpPr>
        <p:spPr>
          <a:xfrm>
            <a:off x="69840" y="3281400"/>
            <a:ext cx="9945720" cy="122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1" marL="603360" indent="-250920">
              <a:spcBef>
                <a:spcPts val="638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2" marL="906480" indent="-250920">
              <a:spcBef>
                <a:spcPts val="638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3" marL="1208160" indent="-250920">
              <a:spcBef>
                <a:spcPts val="638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4" marL="1511280" indent="-250920">
              <a:spcBef>
                <a:spcPts val="638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5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6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03640" y="6824520"/>
            <a:ext cx="2730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008000" y="6804000"/>
            <a:ext cx="43689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35440" y="6919200"/>
            <a:ext cx="356400" cy="35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5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7298D1-C867-4287-975E-9029253E1D04}" type="slidenum">
              <a:rPr b="0" lang="it-IT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tangolo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ttangolo arrotondato 10"/>
          <p:cNvGrpSpPr/>
          <p:nvPr/>
        </p:nvGrpSpPr>
        <p:grpSpPr>
          <a:xfrm>
            <a:off x="66600" y="73080"/>
            <a:ext cx="9955440" cy="7394400"/>
            <a:chOff x="66600" y="73080"/>
            <a:chExt cx="9955440" cy="7394400"/>
          </a:xfrm>
        </p:grpSpPr>
        <p:pic>
          <p:nvPicPr>
            <p:cNvPr id="91" name="Rettangolo arrotondato 10" descr=""/>
            <p:cNvPicPr/>
            <p:nvPr/>
          </p:nvPicPr>
          <p:blipFill>
            <a:blip r:embed="rId3"/>
            <a:stretch/>
          </p:blipFill>
          <p:spPr>
            <a:xfrm>
              <a:off x="66600" y="73080"/>
              <a:ext cx="9955440" cy="73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77840" y="184320"/>
              <a:ext cx="9725040" cy="71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ttangolo 11"/>
          <p:cNvSpPr/>
          <p:nvPr/>
        </p:nvSpPr>
        <p:spPr>
          <a:xfrm flipV="1">
            <a:off x="76320" y="2619000"/>
            <a:ext cx="9937800" cy="101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14"/>
          <p:cNvSpPr/>
          <p:nvPr/>
        </p:nvSpPr>
        <p:spPr>
          <a:xfrm>
            <a:off x="76320" y="2581200"/>
            <a:ext cx="9937800" cy="5076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15"/>
          <p:cNvSpPr/>
          <p:nvPr/>
        </p:nvSpPr>
        <p:spPr>
          <a:xfrm>
            <a:off x="74520" y="2720880"/>
            <a:ext cx="9939600" cy="5076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1" marL="603360" indent="-250920">
              <a:spcBef>
                <a:spcPts val="638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2" marL="906480" indent="-250920">
              <a:spcBef>
                <a:spcPts val="638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3" marL="1208160" indent="-250920">
              <a:spcBef>
                <a:spcPts val="638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4" marL="1511280" indent="-250920">
              <a:spcBef>
                <a:spcPts val="638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5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6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03640" y="6824520"/>
            <a:ext cx="2730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82720" y="6804000"/>
            <a:ext cx="44100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35440" y="6917040"/>
            <a:ext cx="356400" cy="3574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5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446C9E-027B-4A68-835E-DEAF73370043}" type="slidenum">
              <a:rPr b="0" lang="it-IT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ttangolo 8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tangolo arrotondato 7"/>
          <p:cNvSpPr/>
          <p:nvPr/>
        </p:nvSpPr>
        <p:spPr>
          <a:xfrm>
            <a:off x="69840" y="76320"/>
            <a:ext cx="9937800" cy="73785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9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arrotondato 10"/>
          <p:cNvSpPr/>
          <p:nvPr/>
        </p:nvSpPr>
        <p:spPr>
          <a:xfrm>
            <a:off x="69840" y="76320"/>
            <a:ext cx="9937800" cy="73785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1" marL="603360" indent="-250920">
              <a:spcBef>
                <a:spcPts val="638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2" marL="906480" indent="-250920">
              <a:spcBef>
                <a:spcPts val="638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3" marL="1208160" indent="-250920">
              <a:spcBef>
                <a:spcPts val="638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4" marL="1511280" indent="-250920">
              <a:spcBef>
                <a:spcPts val="638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5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6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03640" y="6824520"/>
            <a:ext cx="2730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1008000" y="6804000"/>
            <a:ext cx="43689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35440" y="6919200"/>
            <a:ext cx="356400" cy="35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5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A7FF9F-C0D8-4881-B821-68F04FA29734}" type="slidenum">
              <a:rPr b="0" lang="it-IT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ttangolo 8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tangolo arrotondato 7"/>
          <p:cNvSpPr/>
          <p:nvPr/>
        </p:nvSpPr>
        <p:spPr>
          <a:xfrm>
            <a:off x="69840" y="76320"/>
            <a:ext cx="9937800" cy="73785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tangolo 9"/>
          <p:cNvSpPr/>
          <p:nvPr/>
        </p:nvSpPr>
        <p:spPr>
          <a:xfrm flipV="1">
            <a:off x="74520" y="5161320"/>
            <a:ext cx="9929880" cy="1018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tangolo 10"/>
          <p:cNvSpPr/>
          <p:nvPr/>
        </p:nvSpPr>
        <p:spPr>
          <a:xfrm>
            <a:off x="76320" y="5126040"/>
            <a:ext cx="9928080" cy="5076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tangolo 11"/>
          <p:cNvSpPr/>
          <p:nvPr/>
        </p:nvSpPr>
        <p:spPr>
          <a:xfrm>
            <a:off x="76320" y="5261040"/>
            <a:ext cx="9928080" cy="540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8000" y="30276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008000" y="1595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1" marL="603360" indent="-250920">
              <a:spcBef>
                <a:spcPts val="638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2" marL="906480" indent="-250920">
              <a:spcBef>
                <a:spcPts val="638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3" marL="1208160" indent="-250920">
              <a:spcBef>
                <a:spcPts val="638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4" marL="1511280" indent="-250920">
              <a:spcBef>
                <a:spcPts val="638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5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lvl="6" marL="1511280" indent="-250920">
              <a:spcBef>
                <a:spcPts val="638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803640" y="6824520"/>
            <a:ext cx="2730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1008000" y="6804000"/>
            <a:ext cx="42847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35440" y="6917040"/>
            <a:ext cx="356400" cy="3574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5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CB79F1-1654-4D25-BFF6-1F393B5C5686}" type="slidenum">
              <a:rPr b="0" lang="it-IT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100800" anchor="b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Franklin Gothic Book"/>
              </a:rPr>
              <a:t>I problemi dell'agricoltura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t">
            <a:normAutofit/>
          </a:bodyPr>
          <a:p>
            <a:pPr marL="431640" indent="-323640">
              <a:lnSpc>
                <a:spcPct val="95000"/>
              </a:lnSpc>
              <a:spcBef>
                <a:spcPts val="638"/>
              </a:spcBef>
              <a:buClr>
                <a:srgbClr val="d34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l suo normale funzionamento, l' agricoltura conta sulle acque piovane e del sottosuolo, ma per ottenere una produttività più elevata l'agricoltura moderna deve ricorrere all'irrigazione. In tutto il mondo il 70% dell'acqua è usata per l'irrigazione, ma ben più della metà dell' acqua usata per l'irrigazione viene sprecat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1640" indent="-323640">
              <a:lnSpc>
                <a:spcPct val="95000"/>
              </a:lnSpc>
              <a:spcBef>
                <a:spcPts val="638"/>
              </a:spcBef>
              <a:buClr>
                <a:srgbClr val="d34817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gricoltura e clima da sempre si influenzano l'un l'altro. Uno dei principali problemi che influenzano l'agricoltura è il cambiamento climatico. Il cambiamento improvisso del clima può influenzare di molto la crescita costante delle coltu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1"/>
          <p:cNvSpPr/>
          <p:nvPr/>
        </p:nvSpPr>
        <p:spPr>
          <a:xfrm>
            <a:off x="-71280" y="2664000"/>
            <a:ext cx="66531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319640" y="2916360"/>
            <a:ext cx="5629320" cy="4416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rcRect l="0" t="0" r="12306" b="4761"/>
          <a:stretch/>
        </p:blipFill>
        <p:spPr>
          <a:xfrm>
            <a:off x="360360" y="250920"/>
            <a:ext cx="417528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7T08:38:03Z</dcterms:created>
  <dc:creator>Lorezo Sileri</dc:creator>
  <dc:description/>
  <dc:language>en-US</dc:language>
  <cp:lastModifiedBy>Bene</cp:lastModifiedBy>
  <dcterms:modified xsi:type="dcterms:W3CDTF">2016-06-09T20:33:07Z</dcterms:modified>
  <cp:revision>4</cp:revision>
  <dc:subject/>
  <dc:title>I problemi dell'agricoltura</dc:title>
</cp:coreProperties>
</file>